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594-838F-41AC-B716-B260315C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FAF-266D-4E35-9A43-2DA73A05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E7C-1CBB-4A2C-80C2-30F2C039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7F6-0078-45A4-B584-AC738130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0A0-A2F6-474D-A3B7-BE918733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D5C-B836-4FB9-A0ED-75E0C0F1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E40-AAC0-45A6-89B9-9DC61333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749-1374-4BEB-BFFC-D2D3D319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803-38B0-432D-BC64-5C971455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80A-D352-415D-8393-4F694754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295-DAB9-4B01-A5FB-6D0720FC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8D8-BDAB-47FC-BDAB-3E1AF6D0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4250-3022-41F5-BBC6-4B331CF2A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ynthesi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5/Chapter05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57360" y="1981080"/>
            <a:ext cx="602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the blueprint for protein synthesis, but proteins are synthesized outside of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DNA need to exit and re-enter the nucleus?  If so, how does it avoid being dama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proteins be synthesized at different rates if there is only 1 complete set of DNA in every cell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 dog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olecular genetics is that protein synthesis occurs as a two-step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opying of information in DNA into mRNA (messenger 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using the mRNA blueprint to create a chain of amino acids (involves ribosom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8240" y="1535040"/>
            <a:ext cx="45734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oxyribose su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ose su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-str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-str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T, C-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U, C-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nucl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nucleus and in cytopla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enger RNA (mRN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formation from DNA is transcribed onto mRNA; length depends on length of gene tran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ransfers amino acids to ribosome to build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osomal RNA (rRN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structural component of rib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 polymerase binds to DNA at the promoter site (near the beginning of the g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DNA template, RNA polymerase adds ribonucleotides to build mRNA tran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 polymerase recognizes signal to stop transcription (termination sequ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cognizes specific sequence on mRNA and binds to that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moves along mRNA 3 nucleotides at a time;  tRNA delivers amino acids to elongate polypeptid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base “stop” signal reached and ribosome falls off the mRNA, releasing polypeptid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3-base sequence on mRNA that codes for a specific 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signals initiation; codes for methio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oes not code for an amino acid;  signals 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9:34Z</dcterms:created>
  <dc:creator>rubina khan</dc:creator>
  <dc:description/>
  <dc:language>en-US</dc:language>
  <cp:lastModifiedBy>rubina khan</cp:lastModifiedBy>
  <dcterms:modified xsi:type="dcterms:W3CDTF">2011-11-14T18:29:01Z</dcterms:modified>
  <cp:revision>23</cp:revision>
  <dc:subject/>
  <dc:title>Molecular Genetics</dc:title>
</cp:coreProperties>
</file>